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27C-BF9B-4473-9D5E-6EC4CF054ED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30B-3A20-4A5C-9100-CE18D85EA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ED07-AD5F-4764-8D1D-BFE9C0EBD2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B5A-134D-4851-A15B-01D808E390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98A8-407A-4C73-A07E-D8562A2277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AF63-6A0D-4BFB-9D04-8E67C9479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E5F1-FCD7-448D-8917-92C0E388E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E6FF-7CCE-470A-B37B-943B1801C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6C3-3026-42A8-A924-5DA22A87C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E52D-69D1-4046-BF3F-63431C6EC1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A33E-DE05-47D3-822D-DEDB98BB7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AC7-6C51-4CC2-AA6D-B0C72E22DA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0E15D-23ED-4639-9356-276848DB4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51D4-E5E0-48A0-82F8-1CD0AFF582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3BB8-6ADC-4C08-8E05-260AFE7AE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A512-DDB1-40C6-A1A9-D2606C683A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7E95-2991-44A1-8698-01DBEF8E1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456-7BC0-48DB-88E9-742847741E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0A75A-97BA-4B07-A73C-5B78AF04C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4DAA-BE15-4BB5-9E29-D4F7BAC407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C0BDE-6ACD-4E97-863D-6ED8BDDB8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46A9-A7C1-4EC7-A280-CFEF0158D9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50B-C7A7-455E-A253-30492911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A92-8128-465F-917D-C46ABB8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9EA-AC2A-42D7-A416-C8494E3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9C4-D16C-4725-951C-3F3E9D1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CCB-D3D0-488D-B0AF-773CA99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B6B-7693-488C-9D4A-FB2DE48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2C5-19D3-4D0A-A449-04CBE15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66B-87F5-4C6C-9EF8-426A0A4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B7B-7B1E-4969-8866-685133D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DF7-B11C-4E11-8E8C-4B77191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F5E-1147-4F1C-9CE2-1198C03D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EC1-57ED-4138-BCA2-293A7AA1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5907-DA4E-4A01-9EB0-A973CFD9B610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500040" y="1957320"/>
            <a:ext cx="8399520" cy="4791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>
              <a:gd name="textAreaLeft" fmla="*/ 0 w 611280"/>
              <a:gd name="textAreaRight" fmla="*/ 611280 w 611280"/>
              <a:gd name="textAreaTop" fmla="*/ 0 h 3243240"/>
              <a:gd name="textAreaBottom" fmla="*/ 3243600 h 3243240"/>
            </a:gdLst>
            <a:ahLst/>
            <a:rect l="textAreaLeft" t="textAreaTop" r="textAreaRight" b="textAreaBottom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>
              <a:gd name="textAreaLeft" fmla="*/ 0 w 2967120"/>
              <a:gd name="textAreaRight" fmla="*/ 2967480 w 2967120"/>
              <a:gd name="textAreaTop" fmla="*/ 0 h 1406520"/>
              <a:gd name="textAreaBottom" fmla="*/ 1406520 h 1406520"/>
            </a:gdLst>
            <a:ahLst/>
            <a:rect l="textAreaLeft" t="textAreaTop" r="textAreaRight" b="textAreaBottom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8-02T15:58:44Z</dcterms:modified>
  <cp:revision>390</cp:revision>
  <dc:subject/>
  <dc:title>Low-carbon growth in Brazil?</dc:title>
</cp:coreProperties>
</file>